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6.wmf" ContentType="image/x-wmf"/>
  <Override PartName="/ppt/media/image29.wmf" ContentType="image/x-wmf"/>
  <Override PartName="/ppt/media/image31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6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0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D90875-7CDA-4D04-AFAC-CA821F091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8F2F2D-D2EB-4866-AB26-0A02F2C6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39E4B1-BEBD-40DD-BC68-73C251FF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7E617C-5E22-4B14-A6F8-2100205F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62A1B9-DDE7-4A69-99C5-7CFC1F21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404727-9C19-48ED-9005-600F4BB3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1761C0-AD80-457B-935E-61CD817F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4FDF47-E85F-4463-BCB8-35F67B4C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7A165F-9B97-46EB-A53B-7887081D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1CB829-E2C9-4A54-B85A-E9E885F4E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472A8A-40E3-47B1-AF8E-9A8D9682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A8B121-1163-45B5-A91A-3A4113AE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0CC482-BEFC-4729-A23C-E2F23C00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762508-C32E-4BC8-BD18-4A24C803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498E-43D8-4B3B-A667-1CD19FB3B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6C9D-7A59-4DFF-89D7-6C1F17612B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0D9B-1A28-4115-8495-FB92265338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A235-8399-4365-AA08-CC69CAF1AE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71C8-AB00-4EDC-AA54-5C36FB812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B343-366D-4D54-AAAC-BAC8A53FE8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5C5F-D523-4B99-A519-47EE15EF0A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06C2-33A3-4F36-8B67-39B27512E3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A751-28B7-458B-A9A4-260E10335F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EB2A-0165-4AA4-8C1A-E7DA5927A1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A075-E557-434B-9A92-3868B67213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7ADE-A697-4971-BDB1-3F6A9C6191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pic>
        <p:nvPicPr>
          <p:cNvPr id="4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321824210_i.jpg"/>
          <p:cNvPicPr/>
          <p:nvPr/>
        </p:nvPicPr>
        <p:blipFill>
          <a:blip r:embed="rId4"/>
          <a:stretch/>
        </p:blipFill>
        <p:spPr>
          <a:xfrm>
            <a:off x="415800" y="115920"/>
            <a:ext cx="492948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929-6F1F-43DA-BFA3-8079DC6D9A7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70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Pearson_Bound_White"/>
          <p:cNvPicPr/>
          <p:nvPr/>
        </p:nvPicPr>
        <p:blipFill>
          <a:blip r:embed="rId4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Always_Learning_Text_Purple_RGB"/>
          <p:cNvPicPr/>
          <p:nvPr/>
        </p:nvPicPr>
        <p:blipFill>
          <a:blip r:embed="rId5"/>
          <a:stretch/>
        </p:blipFill>
        <p:spPr>
          <a:xfrm>
            <a:off x="1366920" y="23320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2"/>
          <p:cNvSpPr/>
          <p:nvPr/>
        </p:nvSpPr>
        <p:spPr>
          <a:xfrm>
            <a:off x="0" y="119700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slideLayout" Target="../slideLayouts/slideLayout6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6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6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00520" y="1484280"/>
            <a:ext cx="3781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d1348"/>
                </a:solidFill>
                <a:latin typeface="Arial"/>
              </a:rPr>
              <a:t>Section 3.4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16160" y="3212640"/>
            <a:ext cx="372924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olving Rational Equations</a:t>
            </a:r>
            <a:br>
              <a:rPr sz="2800"/>
            </a:b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and Radical Equations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24160" y="6518160"/>
            <a:ext cx="37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Arial"/>
              </a:rPr>
              <a:t>Copyright ©2013, 2009, 2006, 2005 Pearson Education, Inc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Object 2"/>
          <p:cNvGraphicFramePr/>
          <p:nvPr/>
        </p:nvGraphicFramePr>
        <p:xfrm>
          <a:off x="1424160" y="1341360"/>
          <a:ext cx="18856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341360"/>
                    <a:ext cx="1885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3"/>
          <p:cNvGraphicFramePr/>
          <p:nvPr/>
        </p:nvGraphicFramePr>
        <p:xfrm>
          <a:off x="907920" y="2863800"/>
          <a:ext cx="23940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2863800"/>
                    <a:ext cx="2394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4"/>
          <p:cNvGraphicFramePr/>
          <p:nvPr/>
        </p:nvGraphicFramePr>
        <p:xfrm>
          <a:off x="1623960" y="3854520"/>
          <a:ext cx="167796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3960" y="3854520"/>
                    <a:ext cx="1677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5"/>
          <p:cNvGraphicFramePr/>
          <p:nvPr/>
        </p:nvGraphicFramePr>
        <p:xfrm>
          <a:off x="2125800" y="4572000"/>
          <a:ext cx="118260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5800" y="4572000"/>
                    <a:ext cx="1182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11"/>
          <p:cNvSpPr/>
          <p:nvPr/>
        </p:nvSpPr>
        <p:spPr>
          <a:xfrm>
            <a:off x="5530680" y="2209680"/>
            <a:ext cx="371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3467160" y="586728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7932960" y="51958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5" name="Group 27"/>
          <p:cNvGrpSpPr/>
          <p:nvPr/>
        </p:nvGrpSpPr>
        <p:grpSpPr>
          <a:xfrm>
            <a:off x="5613480" y="3048120"/>
            <a:ext cx="2393280" cy="2666880"/>
            <a:chOff x="5613480" y="3048120"/>
            <a:chExt cx="2393280" cy="2666880"/>
          </a:xfrm>
        </p:grpSpPr>
        <p:grpSp>
          <p:nvGrpSpPr>
            <p:cNvPr id="546" name="Group 26"/>
            <p:cNvGrpSpPr/>
            <p:nvPr/>
          </p:nvGrpSpPr>
          <p:grpSpPr>
            <a:xfrm>
              <a:off x="5613480" y="3581280"/>
              <a:ext cx="2393280" cy="2133720"/>
              <a:chOff x="5613480" y="3581280"/>
              <a:chExt cx="2393280" cy="2133720"/>
            </a:xfrm>
          </p:grpSpPr>
          <p:sp>
            <p:nvSpPr>
              <p:cNvPr id="547" name="Line 16"/>
              <p:cNvSpPr/>
              <p:nvPr/>
            </p:nvSpPr>
            <p:spPr>
              <a:xfrm>
                <a:off x="5613480" y="3581280"/>
                <a:ext cx="239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Line 17"/>
              <p:cNvSpPr/>
              <p:nvPr/>
            </p:nvSpPr>
            <p:spPr>
              <a:xfrm>
                <a:off x="7181640" y="35812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Line 18"/>
              <p:cNvSpPr/>
              <p:nvPr/>
            </p:nvSpPr>
            <p:spPr>
              <a:xfrm>
                <a:off x="7181640" y="42670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50" name="Object 11"/>
            <p:cNvGraphicFramePr/>
            <p:nvPr/>
          </p:nvGraphicFramePr>
          <p:xfrm>
            <a:off x="5764680" y="3048120"/>
            <a:ext cx="182952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1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64680" y="3048120"/>
                      <a:ext cx="1829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6"/>
          <p:cNvGraphicFramePr/>
          <p:nvPr/>
        </p:nvGraphicFramePr>
        <p:xfrm>
          <a:off x="5365800" y="3619440"/>
          <a:ext cx="250344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5800" y="3619440"/>
                    <a:ext cx="2503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7"/>
          <p:cNvGraphicFramePr/>
          <p:nvPr/>
        </p:nvGraphicFramePr>
        <p:xfrm>
          <a:off x="5613480" y="4191120"/>
          <a:ext cx="1182600" cy="44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5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13480" y="4191120"/>
                    <a:ext cx="11826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8"/>
          <p:cNvGraphicFramePr/>
          <p:nvPr/>
        </p:nvGraphicFramePr>
        <p:xfrm>
          <a:off x="6108840" y="4724280"/>
          <a:ext cx="6872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7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08840" y="4724280"/>
                    <a:ext cx="687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9"/>
          <p:cNvGraphicFramePr/>
          <p:nvPr/>
        </p:nvGraphicFramePr>
        <p:xfrm>
          <a:off x="6576840" y="5334120"/>
          <a:ext cx="120996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9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76840" y="5334120"/>
                    <a:ext cx="1209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0"/>
          <p:cNvGraphicFramePr/>
          <p:nvPr/>
        </p:nvGraphicFramePr>
        <p:xfrm>
          <a:off x="2311560" y="5181480"/>
          <a:ext cx="8395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1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11560" y="5181480"/>
                    <a:ext cx="839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1424160" y="1341360"/>
          <a:ext cx="23666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341360"/>
                    <a:ext cx="23666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Rectangle 9"/>
          <p:cNvSpPr/>
          <p:nvPr/>
        </p:nvSpPr>
        <p:spPr>
          <a:xfrm>
            <a:off x="743040" y="1828800"/>
            <a:ext cx="8750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solate the radical on one s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874960" y="2387520"/>
          <a:ext cx="22431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4960" y="2387520"/>
                    <a:ext cx="2243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4"/>
          <p:cNvGraphicFramePr/>
          <p:nvPr/>
        </p:nvGraphicFramePr>
        <p:xfrm>
          <a:off x="2476440" y="2908440"/>
          <a:ext cx="308124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440" y="2908440"/>
                    <a:ext cx="30812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3213000" y="3657600"/>
          <a:ext cx="323208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3000" y="3657600"/>
                    <a:ext cx="3232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6"/>
          <p:cNvGraphicFramePr/>
          <p:nvPr/>
        </p:nvGraphicFramePr>
        <p:xfrm>
          <a:off x="3832200" y="4254480"/>
          <a:ext cx="26128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4254480"/>
                    <a:ext cx="2612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7"/>
          <p:cNvGraphicFramePr/>
          <p:nvPr/>
        </p:nvGraphicFramePr>
        <p:xfrm>
          <a:off x="3832200" y="4807080"/>
          <a:ext cx="272412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32200" y="4807080"/>
                    <a:ext cx="2724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8"/>
          <p:cNvGraphicFramePr/>
          <p:nvPr/>
        </p:nvGraphicFramePr>
        <p:xfrm>
          <a:off x="3254400" y="5403960"/>
          <a:ext cx="382428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54400" y="5403960"/>
                    <a:ext cx="38242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9"/>
          <p:cNvGraphicFramePr/>
          <p:nvPr/>
        </p:nvGraphicFramePr>
        <p:xfrm>
          <a:off x="3803760" y="6000840"/>
          <a:ext cx="271152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3760" y="6000840"/>
                    <a:ext cx="2711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s are 9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36600" y="5790960"/>
            <a:ext cx="866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9 checks but 2 does not, the only solution is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743040" y="1905120"/>
            <a:ext cx="255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3475440" y="476424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6" name="Object 2"/>
          <p:cNvGraphicFramePr/>
          <p:nvPr/>
        </p:nvGraphicFramePr>
        <p:xfrm>
          <a:off x="1120680" y="3733920"/>
          <a:ext cx="1252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3733920"/>
                    <a:ext cx="1252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3"/>
          <p:cNvGraphicFramePr/>
          <p:nvPr/>
        </p:nvGraphicFramePr>
        <p:xfrm>
          <a:off x="1582560" y="4336920"/>
          <a:ext cx="8114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2560" y="4336920"/>
                    <a:ext cx="811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2131920" y="4876920"/>
          <a:ext cx="11844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1920" y="4876920"/>
                    <a:ext cx="1184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2" name="Group 34"/>
          <p:cNvGrpSpPr/>
          <p:nvPr/>
        </p:nvGrpSpPr>
        <p:grpSpPr>
          <a:xfrm>
            <a:off x="495360" y="2616120"/>
            <a:ext cx="2971080" cy="2641680"/>
            <a:chOff x="495360" y="2616120"/>
            <a:chExt cx="2971080" cy="2641680"/>
          </a:xfrm>
        </p:grpSpPr>
        <p:grpSp>
          <p:nvGrpSpPr>
            <p:cNvPr id="593" name="Group 22"/>
            <p:cNvGrpSpPr/>
            <p:nvPr/>
          </p:nvGrpSpPr>
          <p:grpSpPr>
            <a:xfrm>
              <a:off x="495360" y="3124080"/>
              <a:ext cx="2971080" cy="2133720"/>
              <a:chOff x="495360" y="3124080"/>
              <a:chExt cx="2971080" cy="2133720"/>
            </a:xfrm>
          </p:grpSpPr>
          <p:sp>
            <p:nvSpPr>
              <p:cNvPr id="594" name="Line 12"/>
              <p:cNvSpPr/>
              <p:nvPr/>
            </p:nvSpPr>
            <p:spPr>
              <a:xfrm>
                <a:off x="495360" y="3124080"/>
                <a:ext cx="29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Line 13"/>
              <p:cNvSpPr/>
              <p:nvPr/>
            </p:nvSpPr>
            <p:spPr>
              <a:xfrm>
                <a:off x="2723760" y="31240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>
                <a:off x="2723760" y="38098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97" name="Object 11"/>
            <p:cNvGraphicFramePr/>
            <p:nvPr/>
          </p:nvGraphicFramePr>
          <p:xfrm>
            <a:off x="969840" y="2616120"/>
            <a:ext cx="2242440" cy="44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69840" y="2616120"/>
                      <a:ext cx="22424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99" name="Object 5"/>
          <p:cNvGraphicFramePr/>
          <p:nvPr/>
        </p:nvGraphicFramePr>
        <p:xfrm>
          <a:off x="660240" y="3162240"/>
          <a:ext cx="273852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0240" y="3162240"/>
                    <a:ext cx="2738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Rectangle 23"/>
          <p:cNvSpPr/>
          <p:nvPr/>
        </p:nvSpPr>
        <p:spPr>
          <a:xfrm>
            <a:off x="8196840" y="472608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2" name="Object 6"/>
          <p:cNvGraphicFramePr/>
          <p:nvPr/>
        </p:nvGraphicFramePr>
        <p:xfrm>
          <a:off x="5956200" y="3708360"/>
          <a:ext cx="10861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56200" y="3708360"/>
                    <a:ext cx="1086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7"/>
          <p:cNvGraphicFramePr/>
          <p:nvPr/>
        </p:nvGraphicFramePr>
        <p:xfrm>
          <a:off x="6257880" y="4343400"/>
          <a:ext cx="7844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57880" y="4343400"/>
                    <a:ext cx="784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8"/>
          <p:cNvGraphicFramePr/>
          <p:nvPr/>
        </p:nvGraphicFramePr>
        <p:xfrm>
          <a:off x="6864480" y="4851360"/>
          <a:ext cx="11826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64480" y="4851360"/>
                    <a:ext cx="1182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35"/>
          <p:cNvGrpSpPr/>
          <p:nvPr/>
        </p:nvGrpSpPr>
        <p:grpSpPr>
          <a:xfrm>
            <a:off x="5226120" y="2590920"/>
            <a:ext cx="2971080" cy="2640960"/>
            <a:chOff x="5226120" y="2590920"/>
            <a:chExt cx="2971080" cy="2640960"/>
          </a:xfrm>
        </p:grpSpPr>
        <p:grpSp>
          <p:nvGrpSpPr>
            <p:cNvPr id="609" name="Group 24"/>
            <p:cNvGrpSpPr/>
            <p:nvPr/>
          </p:nvGrpSpPr>
          <p:grpSpPr>
            <a:xfrm>
              <a:off x="5226120" y="3098880"/>
              <a:ext cx="2971080" cy="2133000"/>
              <a:chOff x="5226120" y="3098880"/>
              <a:chExt cx="2971080" cy="2133000"/>
            </a:xfrm>
          </p:grpSpPr>
          <p:sp>
            <p:nvSpPr>
              <p:cNvPr id="610" name="Line 25"/>
              <p:cNvSpPr/>
              <p:nvPr/>
            </p:nvSpPr>
            <p:spPr>
              <a:xfrm>
                <a:off x="5226120" y="3098880"/>
                <a:ext cx="29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1" name="Line 26"/>
              <p:cNvSpPr/>
              <p:nvPr/>
            </p:nvSpPr>
            <p:spPr>
              <a:xfrm>
                <a:off x="7454520" y="30988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Line 27"/>
              <p:cNvSpPr/>
              <p:nvPr/>
            </p:nvSpPr>
            <p:spPr>
              <a:xfrm>
                <a:off x="7454520" y="37843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613" name="Object 10"/>
            <p:cNvGraphicFramePr/>
            <p:nvPr/>
          </p:nvGraphicFramePr>
          <p:xfrm>
            <a:off x="5700600" y="2590920"/>
            <a:ext cx="224280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0600" y="2590920"/>
                      <a:ext cx="22428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15" name="Object 9"/>
          <p:cNvGraphicFramePr/>
          <p:nvPr/>
        </p:nvGraphicFramePr>
        <p:xfrm>
          <a:off x="5391000" y="3137040"/>
          <a:ext cx="2738520" cy="49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91000" y="3137040"/>
                    <a:ext cx="27385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33"/>
          <p:cNvSpPr/>
          <p:nvPr/>
        </p:nvSpPr>
        <p:spPr>
          <a:xfrm>
            <a:off x="5143680" y="1879560"/>
            <a:ext cx="255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94920" y="1308240"/>
            <a:ext cx="9109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Object 2"/>
          <p:cNvGraphicFramePr/>
          <p:nvPr/>
        </p:nvGraphicFramePr>
        <p:xfrm>
          <a:off x="1496880" y="1309680"/>
          <a:ext cx="30816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309680"/>
                    <a:ext cx="3081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4"/>
          <p:cNvGraphicFramePr/>
          <p:nvPr/>
        </p:nvGraphicFramePr>
        <p:xfrm>
          <a:off x="1857240" y="1844640"/>
          <a:ext cx="39211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844640"/>
                    <a:ext cx="39211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5"/>
          <p:cNvGraphicFramePr/>
          <p:nvPr/>
        </p:nvGraphicFramePr>
        <p:xfrm>
          <a:off x="2585880" y="2614680"/>
          <a:ext cx="42656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5880" y="2614680"/>
                    <a:ext cx="4265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6"/>
          <p:cNvGraphicFramePr/>
          <p:nvPr/>
        </p:nvGraphicFramePr>
        <p:xfrm>
          <a:off x="2571840" y="3156120"/>
          <a:ext cx="370188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3156120"/>
                    <a:ext cx="3701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7"/>
          <p:cNvGraphicFramePr/>
          <p:nvPr/>
        </p:nvGraphicFramePr>
        <p:xfrm>
          <a:off x="2695680" y="3695760"/>
          <a:ext cx="250488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95680" y="3695760"/>
                    <a:ext cx="2504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8"/>
          <p:cNvGraphicFramePr/>
          <p:nvPr/>
        </p:nvGraphicFramePr>
        <p:xfrm>
          <a:off x="3137040" y="4237200"/>
          <a:ext cx="166356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7040" y="4237200"/>
                    <a:ext cx="1663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9"/>
          <p:cNvGraphicFramePr/>
          <p:nvPr/>
        </p:nvGraphicFramePr>
        <p:xfrm>
          <a:off x="2971800" y="4778280"/>
          <a:ext cx="2241720" cy="67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4778280"/>
                    <a:ext cx="224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10"/>
          <p:cNvGraphicFramePr/>
          <p:nvPr/>
        </p:nvGraphicFramePr>
        <p:xfrm>
          <a:off x="3137040" y="5548320"/>
          <a:ext cx="138888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7040" y="5548320"/>
                    <a:ext cx="1388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11"/>
          <p:cNvGraphicFramePr/>
          <p:nvPr/>
        </p:nvGraphicFramePr>
        <p:xfrm>
          <a:off x="3152880" y="5950080"/>
          <a:ext cx="85248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52880" y="5950080"/>
                    <a:ext cx="852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ssible solution, 4, on a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2920" y="5662080"/>
            <a:ext cx="9345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, the number 4 checks. It is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9" descr="Picture 2"/>
          <p:cNvPicPr/>
          <p:nvPr/>
        </p:nvPicPr>
        <p:blipFill>
          <a:blip r:embed="rId1"/>
          <a:stretch/>
        </p:blipFill>
        <p:spPr>
          <a:xfrm>
            <a:off x="2360520" y="1916280"/>
            <a:ext cx="52992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440" y="119664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dic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Ration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containing rational expressions are called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ational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uch equations requires multiplying both sides by the least common denominator (LCD)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ear the equation of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2"/>
          <p:cNvGraphicFramePr/>
          <p:nvPr/>
        </p:nvGraphicFramePr>
        <p:xfrm>
          <a:off x="0" y="0"/>
          <a:ext cx="99072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72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3"/>
          <p:cNvGraphicFramePr/>
          <p:nvPr/>
        </p:nvGraphicFramePr>
        <p:xfrm>
          <a:off x="1639800" y="1268280"/>
          <a:ext cx="2738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9800" y="1268280"/>
                    <a:ext cx="2738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4"/>
          <p:cNvGraphicFramePr/>
          <p:nvPr/>
        </p:nvGraphicFramePr>
        <p:xfrm>
          <a:off x="2063880" y="2895480"/>
          <a:ext cx="3646440" cy="92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3880" y="2895480"/>
                    <a:ext cx="36464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5"/>
          <p:cNvGraphicFramePr/>
          <p:nvPr/>
        </p:nvGraphicFramePr>
        <p:xfrm>
          <a:off x="1884240" y="4051440"/>
          <a:ext cx="33991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4240" y="4051440"/>
                    <a:ext cx="3399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1801800" y="5194440"/>
          <a:ext cx="34815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1800" y="5194440"/>
                    <a:ext cx="3481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2228760" y="6032520"/>
          <a:ext cx="30686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8760" y="6032520"/>
                    <a:ext cx="30686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6837480" y="4267080"/>
          <a:ext cx="17888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37480" y="4267080"/>
                    <a:ext cx="1788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7594560" y="5029200"/>
          <a:ext cx="123840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4560" y="5029200"/>
                    <a:ext cx="1238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0"/>
          <p:cNvGraphicFramePr/>
          <p:nvPr/>
        </p:nvGraphicFramePr>
        <p:xfrm>
          <a:off x="7786800" y="5791320"/>
          <a:ext cx="83952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86800" y="5791320"/>
                    <a:ext cx="839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16"/>
          <p:cNvSpPr/>
          <p:nvPr/>
        </p:nvSpPr>
        <p:spPr>
          <a:xfrm>
            <a:off x="344520" y="2205000"/>
            <a:ext cx="825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both sides by the LCD 6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4920" y="1267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 is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2"/>
          <p:cNvGraphicFramePr/>
          <p:nvPr/>
        </p:nvGraphicFramePr>
        <p:xfrm>
          <a:off x="3687840" y="3886200"/>
          <a:ext cx="1100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3886200"/>
                    <a:ext cx="1100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"/>
          <p:cNvGraphicFramePr/>
          <p:nvPr/>
        </p:nvGraphicFramePr>
        <p:xfrm>
          <a:off x="4127400" y="4997520"/>
          <a:ext cx="14716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7400" y="4997520"/>
                    <a:ext cx="1471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Rectangle 18"/>
          <p:cNvSpPr/>
          <p:nvPr/>
        </p:nvSpPr>
        <p:spPr>
          <a:xfrm>
            <a:off x="6537240" y="5950080"/>
            <a:ext cx="31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5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5786640" y="5384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706400" y="1600200"/>
            <a:ext cx="4484160" cy="4343400"/>
            <a:chOff x="1706400" y="1600200"/>
            <a:chExt cx="4484160" cy="4343400"/>
          </a:xfrm>
        </p:grpSpPr>
        <p:sp>
          <p:nvSpPr>
            <p:cNvPr id="475" name="Rectangle 7"/>
            <p:cNvSpPr/>
            <p:nvPr/>
          </p:nvSpPr>
          <p:spPr>
            <a:xfrm>
              <a:off x="1706400" y="1752480"/>
              <a:ext cx="1485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Arial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6" name="Group 24"/>
            <p:cNvGrpSpPr/>
            <p:nvPr/>
          </p:nvGrpSpPr>
          <p:grpSpPr>
            <a:xfrm>
              <a:off x="3054600" y="2590920"/>
              <a:ext cx="3135960" cy="3352680"/>
              <a:chOff x="3054600" y="2590920"/>
              <a:chExt cx="3135960" cy="3352680"/>
            </a:xfrm>
          </p:grpSpPr>
          <p:sp>
            <p:nvSpPr>
              <p:cNvPr id="477" name="Line 14"/>
              <p:cNvSpPr/>
              <p:nvPr/>
            </p:nvSpPr>
            <p:spPr>
              <a:xfrm>
                <a:off x="3054600" y="2590920"/>
                <a:ext cx="313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Line 15"/>
              <p:cNvSpPr/>
              <p:nvPr/>
            </p:nvSpPr>
            <p:spPr>
              <a:xfrm>
                <a:off x="5200200" y="259092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Line 16"/>
              <p:cNvSpPr/>
              <p:nvPr/>
            </p:nvSpPr>
            <p:spPr>
              <a:xfrm>
                <a:off x="5200200" y="3581280"/>
                <a:ext cx="0" cy="236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480" name="Object 6"/>
            <p:cNvGraphicFramePr/>
            <p:nvPr/>
          </p:nvGraphicFramePr>
          <p:xfrm>
            <a:off x="3054600" y="1600200"/>
            <a:ext cx="261324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54600" y="1600200"/>
                      <a:ext cx="2613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82" name="Object 4"/>
          <p:cNvGraphicFramePr/>
          <p:nvPr/>
        </p:nvGraphicFramePr>
        <p:xfrm>
          <a:off x="2765520" y="2895480"/>
          <a:ext cx="3095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5520" y="2895480"/>
                    <a:ext cx="309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5"/>
          <p:cNvGraphicFramePr/>
          <p:nvPr/>
        </p:nvGraphicFramePr>
        <p:xfrm>
          <a:off x="4815000" y="5486400"/>
          <a:ext cx="7984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15000" y="5486400"/>
                    <a:ext cx="798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2"/>
          <p:cNvGraphicFramePr/>
          <p:nvPr/>
        </p:nvGraphicFramePr>
        <p:xfrm>
          <a:off x="2435400" y="1295280"/>
          <a:ext cx="218736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295280"/>
                    <a:ext cx="21873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7"/>
          <p:cNvSpPr/>
          <p:nvPr/>
        </p:nvSpPr>
        <p:spPr>
          <a:xfrm>
            <a:off x="344520" y="2492280"/>
            <a:ext cx="8337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both sides by the LC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585880" y="3429000"/>
          <a:ext cx="44452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5880" y="3429000"/>
                    <a:ext cx="44452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4"/>
          <p:cNvGraphicFramePr/>
          <p:nvPr/>
        </p:nvGraphicFramePr>
        <p:xfrm>
          <a:off x="4237200" y="4673520"/>
          <a:ext cx="10047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7200" y="4673520"/>
                    <a:ext cx="1004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5"/>
          <p:cNvGraphicFramePr/>
          <p:nvPr/>
        </p:nvGraphicFramePr>
        <p:xfrm>
          <a:off x="3384720" y="5575320"/>
          <a:ext cx="288900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4720" y="5575320"/>
                    <a:ext cx="2889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s are –3 and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611320" y="1904760"/>
            <a:ext cx="4294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88880" y="5445000"/>
            <a:ext cx="41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hecks, so it is a s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3508560" y="46483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26"/>
          <p:cNvGrpSpPr/>
          <p:nvPr/>
        </p:nvGrpSpPr>
        <p:grpSpPr>
          <a:xfrm>
            <a:off x="1238400" y="2476440"/>
            <a:ext cx="2392920" cy="2857680"/>
            <a:chOff x="1238400" y="2476440"/>
            <a:chExt cx="2392920" cy="2857680"/>
          </a:xfrm>
        </p:grpSpPr>
        <p:grpSp>
          <p:nvGrpSpPr>
            <p:cNvPr id="503" name="Group 25"/>
            <p:cNvGrpSpPr/>
            <p:nvPr/>
          </p:nvGrpSpPr>
          <p:grpSpPr>
            <a:xfrm>
              <a:off x="1238400" y="3505320"/>
              <a:ext cx="2392920" cy="1828800"/>
              <a:chOff x="1238400" y="3505320"/>
              <a:chExt cx="2392920" cy="1828800"/>
            </a:xfrm>
          </p:grpSpPr>
          <p:sp>
            <p:nvSpPr>
              <p:cNvPr id="504" name="Line 10"/>
              <p:cNvSpPr/>
              <p:nvPr/>
            </p:nvSpPr>
            <p:spPr>
              <a:xfrm>
                <a:off x="1238400" y="3505320"/>
                <a:ext cx="239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Line 11"/>
              <p:cNvSpPr/>
              <p:nvPr/>
            </p:nvSpPr>
            <p:spPr>
              <a:xfrm>
                <a:off x="2393640" y="3505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Line 12"/>
              <p:cNvSpPr/>
              <p:nvPr/>
            </p:nvSpPr>
            <p:spPr>
              <a:xfrm>
                <a:off x="2393640" y="44956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07" name="Object 7"/>
            <p:cNvGraphicFramePr/>
            <p:nvPr/>
          </p:nvGraphicFramePr>
          <p:xfrm>
            <a:off x="1320840" y="2476440"/>
            <a:ext cx="210456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0840" y="2476440"/>
                      <a:ext cx="210456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09" name="Object 2"/>
          <p:cNvGraphicFramePr/>
          <p:nvPr/>
        </p:nvGraphicFramePr>
        <p:xfrm>
          <a:off x="949320" y="3505320"/>
          <a:ext cx="29574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9320" y="3505320"/>
                    <a:ext cx="29574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3"/>
          <p:cNvGraphicFramePr/>
          <p:nvPr/>
        </p:nvGraphicFramePr>
        <p:xfrm>
          <a:off x="1486080" y="4495680"/>
          <a:ext cx="17888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6080" y="4495680"/>
                    <a:ext cx="178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17"/>
          <p:cNvSpPr/>
          <p:nvPr/>
        </p:nvSpPr>
        <p:spPr>
          <a:xfrm>
            <a:off x="4959360" y="5516640"/>
            <a:ext cx="49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by 0 is not defined, so 3 is not a s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7605360" y="461016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5" name="Group 28"/>
          <p:cNvGrpSpPr/>
          <p:nvPr/>
        </p:nvGrpSpPr>
        <p:grpSpPr>
          <a:xfrm>
            <a:off x="5530680" y="2438280"/>
            <a:ext cx="2393280" cy="2857680"/>
            <a:chOff x="5530680" y="2438280"/>
            <a:chExt cx="2393280" cy="2857680"/>
          </a:xfrm>
        </p:grpSpPr>
        <p:grpSp>
          <p:nvGrpSpPr>
            <p:cNvPr id="516" name="Group 27"/>
            <p:cNvGrpSpPr/>
            <p:nvPr/>
          </p:nvGrpSpPr>
          <p:grpSpPr>
            <a:xfrm>
              <a:off x="5530680" y="3467160"/>
              <a:ext cx="2393280" cy="1828800"/>
              <a:chOff x="5530680" y="3467160"/>
              <a:chExt cx="2393280" cy="1828800"/>
            </a:xfrm>
          </p:grpSpPr>
          <p:sp>
            <p:nvSpPr>
              <p:cNvPr id="517" name="Line 18"/>
              <p:cNvSpPr/>
              <p:nvPr/>
            </p:nvSpPr>
            <p:spPr>
              <a:xfrm>
                <a:off x="5530680" y="3467160"/>
                <a:ext cx="239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Line 19"/>
              <p:cNvSpPr/>
              <p:nvPr/>
            </p:nvSpPr>
            <p:spPr>
              <a:xfrm>
                <a:off x="6685920" y="346716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Line 20"/>
              <p:cNvSpPr/>
              <p:nvPr/>
            </p:nvSpPr>
            <p:spPr>
              <a:xfrm>
                <a:off x="6685920" y="445788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20" name="Object 6"/>
            <p:cNvGraphicFramePr/>
            <p:nvPr/>
          </p:nvGraphicFramePr>
          <p:xfrm>
            <a:off x="5612760" y="2438280"/>
            <a:ext cx="2105280" cy="87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1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2760" y="2438280"/>
                      <a:ext cx="210528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2" name="Object 4"/>
          <p:cNvGraphicFramePr/>
          <p:nvPr/>
        </p:nvGraphicFramePr>
        <p:xfrm>
          <a:off x="5442120" y="3492360"/>
          <a:ext cx="2558880" cy="92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42120" y="3492360"/>
                    <a:ext cx="25588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"/>
          <p:cNvGraphicFramePr/>
          <p:nvPr/>
        </p:nvGraphicFramePr>
        <p:xfrm>
          <a:off x="5999040" y="4495680"/>
          <a:ext cx="137484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9040" y="4495680"/>
                    <a:ext cx="1374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Radic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adical eq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quation in which variables appear in one or more radicands.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inciple of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positive integ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2"/>
          <p:cNvGraphicFramePr/>
          <p:nvPr/>
        </p:nvGraphicFramePr>
        <p:xfrm>
          <a:off x="3322800" y="2679840"/>
          <a:ext cx="32191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2800" y="2679840"/>
                    <a:ext cx="3219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Solving Radic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adical equation we must first isolate the radical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pply the Principle of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radical equation has two radical terms on one side, we isolate one of them and then use the principle of powers. If, after doing so, a radical terms remains, we repeat these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50Z</dcterms:created>
  <dc:creator>rosimerr</dc:creator>
  <dc:description>Built by: www.mediasterling.com</dc:description>
  <dc:language>en-US</dc:language>
  <cp:lastModifiedBy>Denise Heban</cp:lastModifiedBy>
  <dcterms:modified xsi:type="dcterms:W3CDTF">2011-12-04T11:46:10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